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A1C-6980-43ED-8E02-BDB2B5B3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64F-E4EF-4783-80C3-82935119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DB34-5E19-4FB6-A9B4-60588944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A72-4774-44B9-87EB-07979BB3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4798-6524-4651-8F66-B0F5EA05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D38A-FC69-4702-A8B2-05A931A0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5A67-55DB-4BE8-8AEB-9B46BB7A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3AD-0B3C-43F4-9C1D-E42914C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4257-62BC-462C-9214-8FE05E0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CC60-CCE2-405D-AD5A-9E4C55A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D2A8-445C-4B1C-B366-DD99A6C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667-307C-4235-8DEF-7C15808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77F-6D12-41AA-8AD0-E2783EC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99A-869B-432D-87EA-BC24151C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D7AD-C507-4317-A2AA-09792212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1F04-33A2-405A-ABB7-88BB0DE2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AD32-C255-4F7B-B38E-0C25D6BF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B285-A996-4613-B6BB-8836E37D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0F9-ED2E-4468-8FA3-D55FB677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56D-1C72-4CC0-B8C3-1D6D474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DE0-9C35-40E5-A8F1-7725958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EE0C-27E1-4D5E-91AD-810872C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656-8FEC-46B0-8C62-8997E93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2FB-B816-49F4-B0C7-A22A17B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EE5-7F75-4D62-99D5-F5DDDCBE3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92D-4369-4F17-8EE4-FA127AC5B9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Урок алгебры в 7 «в»классе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с использова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ого комплекс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0605a"/>
                </a:solidFill>
                <a:latin typeface="Arial"/>
              </a:rPr>
              <a:t>Используя формулу разности квадратов</a:t>
            </a:r>
            <a:br>
              <a:rPr sz="2700"/>
            </a:br>
            <a:r>
              <a:rPr b="1" lang="en-US" sz="2700" spc="-1" strike="noStrike">
                <a:solidFill>
                  <a:srgbClr val="30605a"/>
                </a:solidFill>
                <a:latin typeface="Arial"/>
              </a:rPr>
              <a:t>решить уравнения:</a:t>
            </a:r>
            <a:endParaRPr b="0" lang="en-US" sz="27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905120" y="1676520"/>
                <a:ext cx="3049560" cy="48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Замените пропуски такими одночленами, чтобы выполнялось равенство.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1447920"/>
                <a:ext cx="503892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у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а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+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у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-2833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600200" y="228600"/>
                <a:ext cx="52578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Квадратны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уравнения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вх</m:t>
                        </m:r>
                        <m:r>
                          <m:t xml:space="preserve">+</m:t>
                        </m:r>
                        <m:r>
                          <m:t xml:space="preserve">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286000" y="1523880"/>
                <a:ext cx="4419720" cy="502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или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30605a"/>
                </a:solidFill>
                <a:latin typeface="Arial"/>
              </a:rPr>
              <a:t>Метод выделения полного квадрата</a:t>
            </a:r>
            <a:r>
              <a:rPr b="1" lang="en-US" sz="2700" spc="-1" strike="noStrike">
                <a:solidFill>
                  <a:srgbClr val="30605a"/>
                </a:solidFill>
                <a:latin typeface="Arial"/>
              </a:rPr>
              <a:t>:</a:t>
            </a:r>
            <a:br>
              <a:rPr sz="2700"/>
            </a:br>
            <a:br>
              <a:rPr sz="2300"/>
            </a:br>
            <a:endParaRPr b="0" lang="en-US" sz="27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81080" y="1523880"/>
                <a:ext cx="4268880" cy="518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p>
                                  <m:e>
                                    <m:r>
                                      <m:t xml:space="preserve">х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х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lim>
                        </m:limLow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876920" y="762120"/>
                <a:ext cx="380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Практическое применение.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1600200"/>
                <a:ext cx="19814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246560" y="1598760"/>
                <a:ext cx="28972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п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п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0605a"/>
                </a:solidFill>
                <a:latin typeface="Arial"/>
              </a:rPr>
              <a:t>Проверочная работа.</a:t>
            </a:r>
            <a:endParaRPr b="0" lang="en-US" sz="30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1066680"/>
          <a:ext cx="8458200" cy="5624640"/>
        </p:xfrm>
        <a:graphic>
          <a:graphicData uri="http://schemas.openxmlformats.org/drawingml/2006/table">
            <a:tbl>
              <a:tblPr/>
              <a:tblGrid>
                <a:gridCol w="3021120"/>
                <a:gridCol w="3097080"/>
                <a:gridCol w="234000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уров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азложить на множите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ить наиболее рациональным способ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Доказать,что многочлен делиться н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85800" y="2590920"/>
                <a:ext cx="1521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9880" y="2514600"/>
                <a:ext cx="17384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28600" y="4114800"/>
                <a:ext cx="28195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,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,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,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0,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,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0,4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581280" y="4419720"/>
                <a:ext cx="2514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85800" y="5943600"/>
                <a:ext cx="2133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09880" y="5943600"/>
                <a:ext cx="1981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2971800"/>
                <a:ext cx="236232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у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у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30605a"/>
                </a:solidFill>
                <a:latin typeface="Arial"/>
              </a:rPr>
              <a:t>Ответы к проверочной работе: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1828800"/>
          <a:ext cx="7315200" cy="4564080"/>
        </p:xfrm>
        <a:graphic>
          <a:graphicData uri="http://schemas.openxmlformats.org/drawingml/2006/table">
            <a:tbl>
              <a:tblPr/>
              <a:tblGrid>
                <a:gridCol w="2460600"/>
                <a:gridCol w="2311560"/>
                <a:gridCol w="254304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х(х-3)(х+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(2х+у)(2х-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(х+2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(х+2)(х+у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(х-5)(х+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: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: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3352680"/>
                <a:ext cx="1014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Тема: «Разложение многочленов</a:t>
            </a:r>
            <a:br>
              <a:rPr sz="2400"/>
            </a:br>
            <a:r>
              <a:rPr b="1" lang="en-US" sz="2400" spc="-1" strike="noStrike">
                <a:solidFill>
                  <a:srgbClr val="30605a"/>
                </a:solidFill>
                <a:latin typeface="Arial"/>
              </a:rPr>
              <a:t>на множители»</a:t>
            </a:r>
            <a:endParaRPr b="0" lang="en-US" sz="24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пособы разложения многочлен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Способы разложения многочленов на множители: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несение общего множителя за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соб группир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ение многочленов на множители с помощью формул сокращенного умн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ение многочленов на множители с помощью комбинации различных прие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предварительного пре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 выделения полного квад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Что такое разложение многочлена на множители?</a:t>
            </a:r>
            <a:br>
              <a:rPr sz="2300"/>
            </a:br>
            <a:r>
              <a:rPr b="0" lang="en-US" sz="1900" spc="-1" strike="noStrike">
                <a:solidFill>
                  <a:srgbClr val="30605a"/>
                </a:solidFill>
                <a:latin typeface="Arial"/>
              </a:rPr>
              <a:t>(Соедини соответствующие части определения)</a:t>
            </a:r>
            <a:endParaRPr b="0" lang="en-US" sz="19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8305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представление в виде    суммы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чл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редставление в виде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изведения двух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кольких одно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представление в виде разности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гочл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.представление в вид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изведения двух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скольких  многочленов.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62120" y="2514600"/>
            <a:ext cx="26953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ожение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ногочлена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 множители-это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558f7d"/>
                </a:solidFill>
                <a:latin typeface="Arial"/>
              </a:rPr>
              <a:t>Продолжи определение</a:t>
            </a:r>
            <a:r>
              <a:rPr b="0" lang="en-US" sz="1900" spc="-1" strike="noStrike">
                <a:solidFill>
                  <a:srgbClr val="30605a"/>
                </a:solidFill>
                <a:latin typeface="Arial"/>
              </a:rPr>
              <a:t>. Вынесение общего множителя за скобки- </a:t>
            </a:r>
            <a:endParaRPr b="0" lang="en-US" sz="19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Алгоритм отыскания общего множителя</a:t>
            </a:r>
            <a:br>
              <a:rPr sz="2400"/>
            </a:br>
            <a:r>
              <a:rPr b="1" i="1" lang="en-US" sz="2400" spc="-1" strike="noStrike">
                <a:solidFill>
                  <a:srgbClr val="558f7d"/>
                </a:solidFill>
                <a:latin typeface="Arial"/>
              </a:rPr>
              <a:t>нескольких одночленов</a:t>
            </a:r>
            <a:r>
              <a:rPr b="1" lang="en-US" sz="3200" spc="-1" strike="noStrike">
                <a:solidFill>
                  <a:srgbClr val="558f7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Найти                              общий делитель коэффициентов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ночленов, входящих в многоч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Найти                                , которые входят в каждый член многочлена, и выбрать из них                               показатель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Произведение                                   , найденного на первом шаге, и                            , найденных на втором шаге, является общим множителем, который выносят за ско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572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представление многочлена в виде произведения</a:t>
            </a:r>
            <a:br>
              <a:rPr sz="2000"/>
            </a:b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одночлена и многоч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819520"/>
            <a:ext cx="1523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ибольш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495680" y="3276720"/>
            <a:ext cx="19814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19520" y="4114800"/>
            <a:ext cx="19810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именьш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581280" y="5257800"/>
            <a:ext cx="2067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эффициен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62520" y="5715000"/>
            <a:ext cx="1366560" cy="1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епен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7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70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58f7d"/>
                </a:solidFill>
                <a:latin typeface="Arial"/>
              </a:rPr>
              <a:t>Алгоритм разложения многочлена на множители способом</a:t>
            </a:r>
            <a:br>
              <a:rPr sz="2000"/>
            </a:br>
            <a:r>
              <a:rPr b="0" i="1" lang="en-US" sz="2000" spc="-1" strike="noStrike">
                <a:solidFill>
                  <a:srgbClr val="558f7d"/>
                </a:solidFill>
                <a:latin typeface="Arial"/>
              </a:rPr>
              <a:t>группировки</a:t>
            </a:r>
            <a:r>
              <a:rPr b="0" lang="en-US" sz="2000" spc="-1" strike="noStrike">
                <a:solidFill>
                  <a:srgbClr val="558f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0605a"/>
                </a:solidFill>
                <a:latin typeface="Arial"/>
              </a:rPr>
              <a:t>(установить истинный порядок выполнения)</a:t>
            </a:r>
            <a:endParaRPr b="0" lang="en-US" sz="2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1.          Вынести в каждой группе общий множитель ( в виде многочлена) за ско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2.           Сгруппировать члены так, чтобы слагаемые имели общий множ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3.           Вынести в каждой группе общий множитель ( в виде одночлена) за скобки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f7d"/>
                </a:solidFill>
                <a:latin typeface="Arial"/>
              </a:rPr>
              <a:t>Разложение многочленов на множители с помощью</a:t>
            </a:r>
            <a:br>
              <a:rPr sz="2300"/>
            </a:br>
            <a:r>
              <a:rPr b="0" lang="en-US" sz="2300" spc="-1" strike="noStrike">
                <a:solidFill>
                  <a:srgbClr val="558f7d"/>
                </a:solidFill>
                <a:latin typeface="Arial"/>
              </a:rPr>
              <a:t> формул сокращенного умножения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62120" y="1600200"/>
                <a:ext cx="40384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63520" y="2430360"/>
                <a:ext cx="38386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3520" y="3338640"/>
                <a:ext cx="3765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36600" y="5078520"/>
                <a:ext cx="50688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4191120"/>
                <a:ext cx="5029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Произвести классификацию данных многочленов по способу разложения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несение об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ножителя за скоб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пособ группир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 помощью форму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кращенного умн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льзя разло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6095880"/>
                <a:ext cx="23623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67560" y="2506680"/>
                <a:ext cx="16729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248520" y="4495680"/>
                <a:ext cx="1523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3520" y="5638680"/>
                <a:ext cx="2286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т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п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тп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п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867280" y="3200400"/>
                <a:ext cx="20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638680" y="1981080"/>
                <a:ext cx="22100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6095880" y="3809880"/>
                <a:ext cx="175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648320" y="5486400"/>
                <a:ext cx="1676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724280" y="6095880"/>
                <a:ext cx="1295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Представьте трехчлен в виде квадрата двучлена</a:t>
            </a:r>
            <a:br>
              <a:rPr sz="2300"/>
            </a:br>
            <a:r>
              <a:rPr b="1" lang="en-US" sz="2300" spc="-1" strike="noStrike">
                <a:solidFill>
                  <a:srgbClr val="30605a"/>
                </a:solidFill>
                <a:latin typeface="Arial"/>
              </a:rPr>
              <a:t>(если это возможно</a:t>
            </a:r>
            <a:r>
              <a:rPr b="0" lang="en-US" sz="2300" spc="-1" strike="noStrike">
                <a:solidFill>
                  <a:srgbClr val="30605a"/>
                </a:solidFill>
                <a:latin typeface="Arial"/>
              </a:rPr>
              <a:t>).</a:t>
            </a:r>
            <a:endParaRPr b="0" lang="en-US" sz="2300" spc="-1" strike="noStrike">
              <a:solidFill>
                <a:srgbClr val="30605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600200" y="1752480"/>
                <a:ext cx="3008160" cy="449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тп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п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12T16:13:2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